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555-0770-402D-9317-3D00CF9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EBE-31D6-46FD-A1FD-46A99512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73C-EB06-47AB-9E91-8220D8F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06C-17A0-4C63-8D56-4A027546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DE28-13A6-4028-90B7-346A34A0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0FEB-BB7C-4913-8D1B-C671A81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820-1E8A-4683-8D9E-C2A0467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F28-C708-4F13-8C51-60926F0E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4CD9-4EC1-4A30-9D53-CB55E16C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459-483E-4373-B2E9-8B5190D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A608-646A-4D0B-ABAA-BD9290E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DDF-49DF-4814-8A7C-F105503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C615-9C92-4F1D-9983-4E77828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7F65-9D72-49C5-86FB-9A0936B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1650-CB46-4207-B1CE-F76F40A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78B-FD0C-4B6D-BB7F-220D58F9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E26C-FF30-42A7-A46D-3FC9F4DA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BCA-D1BC-4600-B9DD-262C58D5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D11-C6AF-441F-BADE-019AE4F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BE9-ACA9-4C74-B42D-B0AB9B5C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C38-8B4B-464E-8EC4-DDE160E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4AC-6048-41C3-9FC3-FD28E94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61D-E8A4-4302-8B2A-192CFF9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705-F459-467F-B187-D920B5F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8C26-7654-42D8-BFB7-91DB5EFC3B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01C2-EB8A-4818-9727-432CDAA584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ia.com/mc/87086.html" TargetMode="External"/><Relationship Id="rId2" Type="http://schemas.openxmlformats.org/officeDocument/2006/relationships/hyperlink" Target="http://www.cogcon.com/gamegoo/games/squanky2/squanky2.html" TargetMode="External"/><Relationship Id="rId3" Type="http://schemas.openxmlformats.org/officeDocument/2006/relationships/hyperlink" Target="http://www.quia.com/mc/86241.html" TargetMode="External"/><Relationship Id="rId4" Type="http://schemas.openxmlformats.org/officeDocument/2006/relationships/image" Target="../media/image3.wmf"/><Relationship Id="rId5" Type="http://schemas.openxmlformats.org/officeDocument/2006/relationships/slide" Target="slide2.xml"/><Relationship Id="rId6" Type="http://schemas.openxmlformats.org/officeDocument/2006/relationships/hyperlink" Target="http://www.bbc.co.uk/skillswise/words/spelling/soundandspell/syllables/game.shtml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ictgames.com/spacejumps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bbc.co.uk/skillswise/words/grammar/sentencebasics/whatisasentence/flash3.shtml" TargetMode="External"/><Relationship Id="rId3" Type="http://schemas.openxmlformats.org/officeDocument/2006/relationships/hyperlink" Target="http://www.bbc.co.uk/skillswise/words/grammar/interestsentences/compoundsentences/game.shtml" TargetMode="External"/><Relationship Id="rId4" Type="http://schemas.openxmlformats.org/officeDocument/2006/relationships/hyperlink" Target="http://www.ictgames.com/dinosaurwordsrepeat.html" TargetMode="External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28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Year 3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Digital Learning Centr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149720"/>
            <a:ext cx="5113440" cy="865080"/>
          </a:xfrm>
          <a:custGeom>
            <a:avLst/>
            <a:gdLst>
              <a:gd name="textAreaLeft" fmla="*/ 0 w 5113440"/>
              <a:gd name="textAreaRight" fmla="*/ 5113800 w 511344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28720" y="6554520"/>
            <a:ext cx="38149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Home Pag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268360" y="242100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268360" y="3645000"/>
            <a:ext cx="1151280" cy="93636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6556" h="21600">
                <a:moveTo>
                  <a:pt x="0" y="0"/>
                </a:moveTo>
                <a:lnTo>
                  <a:pt x="26556" y="0"/>
                </a:lnTo>
                <a:lnTo>
                  <a:pt x="26556" y="21600"/>
                </a:lnTo>
                <a:lnTo>
                  <a:pt x="0" y="21600"/>
                </a:lnTo>
                <a:close/>
              </a:path>
              <a:path fill="lightenLess" w="26556" h="21600">
                <a:moveTo>
                  <a:pt x="0" y="0"/>
                </a:moveTo>
                <a:lnTo>
                  <a:pt x="26556" y="0"/>
                </a:lnTo>
                <a:lnTo>
                  <a:pt x="25156" y="1400"/>
                </a:lnTo>
                <a:lnTo>
                  <a:pt x="1400" y="1400"/>
                </a:lnTo>
                <a:close/>
              </a:path>
              <a:path fill="darken" w="26556" h="21600">
                <a:moveTo>
                  <a:pt x="26556" y="0"/>
                </a:moveTo>
                <a:lnTo>
                  <a:pt x="26556" y="21600"/>
                </a:lnTo>
                <a:lnTo>
                  <a:pt x="25156" y="20200"/>
                </a:lnTo>
                <a:lnTo>
                  <a:pt x="25156" y="1400"/>
                </a:lnTo>
                <a:close/>
              </a:path>
              <a:path fill="darkenLess" w="26556" h="21600">
                <a:moveTo>
                  <a:pt x="26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6" y="20200"/>
                </a:lnTo>
                <a:close/>
              </a:path>
              <a:path fill="lighten" w="26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2268360" y="4797360"/>
            <a:ext cx="1151280" cy="93672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6546" h="21600">
                <a:moveTo>
                  <a:pt x="0" y="0"/>
                </a:moveTo>
                <a:lnTo>
                  <a:pt x="26546" y="0"/>
                </a:lnTo>
                <a:lnTo>
                  <a:pt x="26546" y="21600"/>
                </a:lnTo>
                <a:lnTo>
                  <a:pt x="0" y="21600"/>
                </a:lnTo>
                <a:close/>
              </a:path>
              <a:path fill="lightenLess" w="26546" h="21600">
                <a:moveTo>
                  <a:pt x="0" y="0"/>
                </a:moveTo>
                <a:lnTo>
                  <a:pt x="26546" y="0"/>
                </a:lnTo>
                <a:lnTo>
                  <a:pt x="25146" y="1400"/>
                </a:lnTo>
                <a:lnTo>
                  <a:pt x="1400" y="1400"/>
                </a:lnTo>
                <a:close/>
              </a:path>
              <a:path fill="darken" w="26546" h="21600">
                <a:moveTo>
                  <a:pt x="26546" y="0"/>
                </a:moveTo>
                <a:lnTo>
                  <a:pt x="26546" y="21600"/>
                </a:lnTo>
                <a:lnTo>
                  <a:pt x="25146" y="20200"/>
                </a:lnTo>
                <a:lnTo>
                  <a:pt x="25146" y="1400"/>
                </a:lnTo>
                <a:close/>
              </a:path>
              <a:path fill="darkenLess" w="26546" h="21600">
                <a:moveTo>
                  <a:pt x="2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6" y="20200"/>
                </a:lnTo>
                <a:close/>
              </a:path>
              <a:path fill="lighten" w="2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13372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645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869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1844640" cy="183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Readi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rId1"/>
          </p:cNvPr>
          <p:cNvSpPr/>
          <p:nvPr/>
        </p:nvSpPr>
        <p:spPr>
          <a:xfrm>
            <a:off x="1835280" y="2852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/>
          </p:cNvPr>
          <p:cNvSpPr/>
          <p:nvPr/>
        </p:nvSpPr>
        <p:spPr>
          <a:xfrm>
            <a:off x="1835280" y="393372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1835280" y="177336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184464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ac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2924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poun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07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ynonyms – Simila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335640" y="1700280"/>
            <a:ext cx="2808360" cy="265104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7380360" y="5589720"/>
            <a:ext cx="863640" cy="934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382">
                <a:moveTo>
                  <a:pt x="0" y="0"/>
                </a:moveTo>
                <a:lnTo>
                  <a:pt x="21600" y="0"/>
                </a:lnTo>
                <a:lnTo>
                  <a:pt x="21600" y="23382"/>
                </a:lnTo>
                <a:lnTo>
                  <a:pt x="0" y="23382"/>
                </a:lnTo>
                <a:close/>
              </a:path>
              <a:path fill="lightenLess" w="21600" h="23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2">
                <a:moveTo>
                  <a:pt x="21600" y="0"/>
                </a:moveTo>
                <a:lnTo>
                  <a:pt x="21600" y="23382"/>
                </a:lnTo>
                <a:lnTo>
                  <a:pt x="20200" y="21982"/>
                </a:lnTo>
                <a:lnTo>
                  <a:pt x="20200" y="1400"/>
                </a:lnTo>
                <a:close/>
              </a:path>
              <a:path fill="darkenLess" w="21600" h="23382">
                <a:moveTo>
                  <a:pt x="21600" y="23382"/>
                </a:moveTo>
                <a:lnTo>
                  <a:pt x="0" y="23382"/>
                </a:lnTo>
                <a:lnTo>
                  <a:pt x="1400" y="21982"/>
                </a:lnTo>
                <a:lnTo>
                  <a:pt x="20200" y="21982"/>
                </a:lnTo>
                <a:close/>
              </a:path>
              <a:path fill="lighten" w="21600" h="23382">
                <a:moveTo>
                  <a:pt x="0" y="23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2"/>
                </a:lnTo>
                <a:close/>
              </a:path>
              <a:path fill="darken" w="21600" h="23382">
                <a:moveTo>
                  <a:pt x="10800" y="4728"/>
                </a:moveTo>
                <a:lnTo>
                  <a:pt x="13376" y="7339"/>
                </a:ln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lnTo>
                  <a:pt x="17763" y="11691"/>
                </a:lnTo>
                <a:lnTo>
                  <a:pt x="16109" y="11691"/>
                </a:lnTo>
                <a:lnTo>
                  <a:pt x="16109" y="18880"/>
                </a:lnTo>
                <a:lnTo>
                  <a:pt x="5491" y="18880"/>
                </a:lnTo>
                <a:lnTo>
                  <a:pt x="5491" y="11691"/>
                </a:lnTo>
                <a:lnTo>
                  <a:pt x="3837" y="11691"/>
                </a:lnTo>
                <a:close/>
              </a:path>
              <a:path fill="darkenLess" w="21600" h="23382">
                <a:moveTo>
                  <a:pt x="13376" y="7339"/>
                </a:move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close/>
              </a:path>
              <a:path fill="darkenLess" w="21600" h="23382">
                <a:moveTo>
                  <a:pt x="9877" y="15190"/>
                </a:moveTo>
                <a:lnTo>
                  <a:pt x="11723" y="15190"/>
                </a:lnTo>
                <a:lnTo>
                  <a:pt x="11723" y="18880"/>
                </a:lnTo>
                <a:lnTo>
                  <a:pt x="16109" y="18880"/>
                </a:lnTo>
                <a:lnTo>
                  <a:pt x="16109" y="11691"/>
                </a:lnTo>
                <a:lnTo>
                  <a:pt x="5491" y="11691"/>
                </a:lnTo>
                <a:lnTo>
                  <a:pt x="5491" y="18880"/>
                </a:lnTo>
                <a:lnTo>
                  <a:pt x="9877" y="1888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/>
          </p:cNvPr>
          <p:cNvSpPr/>
          <p:nvPr/>
        </p:nvSpPr>
        <p:spPr>
          <a:xfrm>
            <a:off x="1835280" y="508464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157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yllable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Math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189160" cy="200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119240" cy="175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198900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068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1835280" y="4149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916280"/>
            <a:ext cx="3887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Funky Mu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mber bonds to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068640"/>
            <a:ext cx="36734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ddition Ma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n adding bingo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4149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pace Jump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by bridging through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7236000" y="5516640"/>
            <a:ext cx="1081080" cy="86508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5280" y="98100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5157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157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dding 9 Fair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Learn to add 9 by adding 10 and takeawa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Spell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948360" y="4149720"/>
            <a:ext cx="191448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1908000" y="2133720"/>
            <a:ext cx="865440" cy="7189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000" h="21600">
                <a:moveTo>
                  <a:pt x="0" y="0"/>
                </a:moveTo>
                <a:lnTo>
                  <a:pt x="26000" y="0"/>
                </a:lnTo>
                <a:lnTo>
                  <a:pt x="26000" y="21600"/>
                </a:lnTo>
                <a:lnTo>
                  <a:pt x="0" y="21600"/>
                </a:lnTo>
                <a:close/>
              </a:path>
              <a:path fill="lightenLess" w="26000" h="21600">
                <a:moveTo>
                  <a:pt x="0" y="0"/>
                </a:moveTo>
                <a:lnTo>
                  <a:pt x="26000" y="0"/>
                </a:lnTo>
                <a:lnTo>
                  <a:pt x="24600" y="1400"/>
                </a:lnTo>
                <a:lnTo>
                  <a:pt x="1400" y="1400"/>
                </a:lnTo>
                <a:close/>
              </a:path>
              <a:path fill="darken" w="26000" h="21600">
                <a:moveTo>
                  <a:pt x="26000" y="0"/>
                </a:moveTo>
                <a:lnTo>
                  <a:pt x="26000" y="21600"/>
                </a:lnTo>
                <a:lnTo>
                  <a:pt x="24600" y="20200"/>
                </a:lnTo>
                <a:lnTo>
                  <a:pt x="24600" y="1400"/>
                </a:lnTo>
                <a:close/>
              </a:path>
              <a:path fill="darkenLess" w="26000" h="21600">
                <a:moveTo>
                  <a:pt x="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0" y="20200"/>
                </a:lnTo>
                <a:close/>
              </a:path>
              <a:path fill="lighten" w="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133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hat is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1908000" y="306864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3280" y="306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Putting sentences togeth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/>
          </p:cNvPr>
          <p:cNvSpPr/>
          <p:nvPr/>
        </p:nvSpPr>
        <p:spPr>
          <a:xfrm>
            <a:off x="190800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4797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Dinosaur Wor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1752840" cy="18907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7524720" y="5805360"/>
            <a:ext cx="792360" cy="792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393372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40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ord build &amp; bank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4:35:10Z</dcterms:created>
  <dc:creator>Gunn</dc:creator>
  <dc:description/>
  <dc:language>en-US</dc:language>
  <cp:lastModifiedBy>lindal</cp:lastModifiedBy>
  <dcterms:modified xsi:type="dcterms:W3CDTF">2007-05-10T14:07:52Z</dcterms:modified>
  <cp:revision>21</cp:revision>
  <dc:subject/>
  <dc:title>Year 1 and 2  Digital Learning Centre</dc:title>
</cp:coreProperties>
</file>